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CC5-831B-4238-AFD0-2A7C8C1D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C73-321F-410A-B90F-59F36EA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F74-2F48-4722-8E18-00CF6339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6C5-E498-4077-8ED7-264DF0D8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9F93-7C26-4301-A1CF-999277C0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2023-B98C-4A26-9E92-B1895F35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E24-C6D0-46F7-BAC7-0C92BF3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21FB-8595-486D-9AAE-6E9F7E8E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9C2E-1C31-4FEB-890D-3516BC8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D543-4561-418A-B7C3-057BCA8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CD7-6D0C-4B3B-A270-47BD558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4DC-BDBE-4161-AFE6-15F98CC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BBDB-10F6-4F68-AB01-4C4B263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1E7-C1F6-4222-A403-57EF8A35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437A-C29C-4695-9D76-6EBD82F3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B722-709D-47BA-A845-87A7105C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082-0A3B-447C-B2E0-EBADDAC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96A-3530-4D43-AA42-0E69D74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8C4-1CC3-4903-8E0C-49093D3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191-E469-482E-8CE5-1CA37BD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11D-4FF8-4A20-82E0-B06751B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A11-C59B-40DC-8A6E-ED095F6C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BDF-C503-428F-BA2C-E9B0A75E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C4A-3173-4A9D-8FF3-5AD01AB3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6D54-CBE5-409A-9CC2-121F8195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177-8F4E-4425-A441-9DB6E29EA9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eff1"/>
                </a:solidFill>
                <a:latin typeface="Arial Black"/>
              </a:rPr>
              <a:t>Sir, We Would See Jesus</a:t>
            </a:r>
            <a:endParaRPr b="0" lang="en-US" sz="4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365724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rter 9, Lesson 10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ges 40-46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k. 2:18-22; John 5:1-47; Mk. 2:23-28; Mk. 3:1-6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E6B-2A38-44FE-8762-4965C86E1240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Review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ning Ministry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lilean Ministr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ernaum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ostles Called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 Multitud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racl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5B1-723C-4251-8A05-7C1488393403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defends His disciples for their feasting instead of fasting – Mk. 2:18-22; Matt. 9:14-17; Luke 5:33-39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were critical of others – Mk. 2:18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ing is for sad occasions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ing the Savior-Messiah with them was a time to rejoice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hardened mentality could not properly expand for this great new age of the Messiah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131-246B-4411-93D9-65171325C0AC}" type="slidenum">
              <a:t>3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ttends a feast of the Jews and heals a lame man – John 5:1-47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ed man is criticized for walking with his bed-pallet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condemn Jesus on two counts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heals on the Sabba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makes Himself equal with Go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, the Father honored Jesus – 5:19,20,23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DC6-93E4-4E78-9D07-B48AEB2A8650}" type="slidenum">
              <a:t>4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attends a feast of the Jews and heals a lame man – John 5:1-47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has these tasks: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 eternal life – 5:21,24,26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raise the dead – 5:25,28-29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ill judge all men – 5:22,27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stimonies concerning Jesus – 5:30-47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John the Baptizer – 5:31-35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His own works or miracles – 5:36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Father – 5:30,37-38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Scriptures (our Old Testament) – 5:39-47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406-7C35-4ECA-9FE2-299BA813C983}" type="slidenum">
              <a:t>5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pluck grain on the Sabbath – Mk. 2:23-28; Matt. 12:1-8; Luke 6:1-5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arisees considered this as “work” and violation of the la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us responde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was not so condemned by the law or by the Pharisee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bbath was not made to add hardship to man, but to give man a needed break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ster of the Sabbath, being present, should know whether the disciples were doing wrong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DFE-B9CC-49E0-9365-8ED57574B3E1}" type="slidenum">
              <a:t>6</a:t>
            </a:fld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Great Galilean Ministry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us heals a man with a withered hand on the Sabbath – Mk. 3:1-6; Matt. 12:9-14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6:6-11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racle is overlooked – Mk.3:1-5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hould have awed and amazed everyon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should have shown that God approved of Jesu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lice is stirred within the Pharisees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plotted with people they normally disagreed wi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ice brings together strange bed-partner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304-93AF-4E51-AFFB-FF99B94CB0B8}" type="slidenum">
              <a:t>7</a:t>
            </a:fld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1:56:11Z</dcterms:created>
  <dc:creator>Terry W. Benton</dc:creator>
  <dc:description/>
  <dc:language>en-US</dc:language>
  <cp:lastModifiedBy>Frank D Vines</cp:lastModifiedBy>
  <dcterms:modified xsi:type="dcterms:W3CDTF">2006-05-07T13:33:39Z</dcterms:modified>
  <cp:revision>6</cp:revision>
  <dc:subject/>
  <dc:title>Sir, We Would See Jesus</dc:title>
</cp:coreProperties>
</file>